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63C-410E-4BEC-B48B-CE63A1C2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FB8-47FF-4EDE-A140-F45CC8AC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8BE-AD21-47E5-A7BB-84337713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F331-FA80-4C29-A676-14A092C8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A35-169E-449C-9054-48589421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592-CE27-4E88-978A-B28F9166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9D4-72E7-4FC5-97BE-7900018D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DF4-6D60-44CF-8251-B143F95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F5B-2BD4-48FF-AE80-28D23CA3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524-8E21-4675-94C4-7613BCB0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915-E8D9-4330-984F-C6D29E4E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620-9F23-4FCA-B3D0-9638C0EA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5B68-CDAC-4F65-B33E-854EFC866A6E}" type="slidenum">
              <a:rPr b="0" lang="en-US" sz="1200" spc="-1" strike="noStrike">
                <a:solidFill>
                  <a:srgbClr val="44546a"/>
                </a:solidFill>
                <a:latin typeface="Century Gothic"/>
                <a:ea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youtu.be/KkYeP5cRyRA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924552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Microbiology Specimen Label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25408f"/>
                </a:solidFill>
                <a:latin typeface="Arial"/>
              </a:rPr>
              <a:t>[Your Organization Her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16048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IDEO – ROCHE LI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3428640"/>
            <a:ext cx="10515600" cy="23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S://YOUTU.BE/KKYEP5CRY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Blood Culture Bott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block/obstruct bar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code needed to scan in instr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5" name="Google Shape;124;p2" descr="photo of a bottle used in the laboratory stating the importance of not covering up the barcode. "/>
          <p:cNvPicPr/>
          <p:nvPr/>
        </p:nvPicPr>
        <p:blipFill>
          <a:blip r:embed="rId2"/>
          <a:srcRect l="0" t="10663" r="4365" b="15923"/>
          <a:stretch/>
        </p:blipFill>
        <p:spPr>
          <a:xfrm>
            <a:off x="6900840" y="1598760"/>
            <a:ext cx="357192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terile Contain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ine – Label actual container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he 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 the lid is properly closed to prevent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body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39" name="Google Shape;132;p3" descr="photo of a example of a sterile container. "/>
          <p:cNvPicPr/>
          <p:nvPr/>
        </p:nvPicPr>
        <p:blipFill>
          <a:blip r:embed="rId2"/>
          <a:srcRect l="0" t="0" r="2597" b="2285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T/G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rine or sw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sending swab, obtain specimen collection from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the swab and insert into smaller tube.  Send smaller tube with swab to the laborato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8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urine, send urine to micro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3" name="Google Shape;139;p4" descr="a photo showing an example of a swab. "/>
          <p:cNvPicPr/>
          <p:nvPr/>
        </p:nvPicPr>
        <p:blipFill>
          <a:blip r:embed="rId2"/>
          <a:srcRect l="10069" t="0" r="14967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 Swabs – Viral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/R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V/VZ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Sizes: 3mL and 1 mL (pe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-on orders for Respiratory Panel same as FLU sw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47" name="Google Shape;146;p5" descr="a photo showing a example of a respiratory panel and swab. "/>
          <p:cNvPicPr/>
          <p:nvPr/>
        </p:nvPicPr>
        <p:blipFill>
          <a:blip r:embed="rId2"/>
          <a:srcRect l="27474" t="24007" r="17667" b="2644"/>
          <a:stretch/>
        </p:blipFill>
        <p:spPr>
          <a:xfrm>
            <a:off x="6900840" y="1600200"/>
            <a:ext cx="3648240" cy="3659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OLLECTION SWAB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 swab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id Strep A an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erobic/Anaerobic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RSA Surveillanc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al labeling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1" name="Google Shape;153;p6" descr="a photo example of a collection swab. "/>
          <p:cNvPicPr/>
          <p:nvPr/>
        </p:nvPicPr>
        <p:blipFill>
          <a:blip r:embed="rId2"/>
          <a:stretch/>
        </p:blipFill>
        <p:spPr>
          <a:xfrm>
            <a:off x="7308720" y="2901960"/>
            <a:ext cx="2832120" cy="105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S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each tub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mindful of tub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5" name="Google Shape;160;p7" descr="a photo example of tubes to highlight the importance of labeling. "/>
          <p:cNvPicPr/>
          <p:nvPr/>
        </p:nvPicPr>
        <p:blipFill>
          <a:blip r:embed="rId2"/>
          <a:srcRect l="13776" t="0" r="0" b="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. DIF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5-7 will be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24 hours ordered without collection will be canc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testing discouraged within 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59" name="Google Shape;167;p8" descr="image of a chart displaying the Bristol Stool Chart "/>
          <p:cNvPicPr/>
          <p:nvPr/>
        </p:nvPicPr>
        <p:blipFill>
          <a:blip r:embed="rId2"/>
          <a:stretch/>
        </p:blipFill>
        <p:spPr>
          <a:xfrm>
            <a:off x="6867360" y="957240"/>
            <a:ext cx="456912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56720" y="1152000"/>
            <a:ext cx="49244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Pre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56720" y="2549160"/>
            <a:ext cx="492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wab – to replace bacterial sw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62080">
              <a:lnSpc>
                <a:spcPct val="110000"/>
              </a:lnSpc>
              <a:spcBef>
                <a:spcPts val="45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be used for Rapid Strep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63360">
            <a:solidFill>
              <a:srgbClr val="ffffff"/>
            </a:solidFill>
            <a:round/>
          </a:ln>
        </p:spPr>
      </p:pic>
      <p:pic>
        <p:nvPicPr>
          <p:cNvPr id="663" name="Google Shape;174;p9" descr="photo showing images of eSwabs."/>
          <p:cNvPicPr/>
          <p:nvPr/>
        </p:nvPicPr>
        <p:blipFill>
          <a:blip r:embed="rId2"/>
          <a:srcRect l="4099" t="-35514" r="4099" b="-44620"/>
          <a:stretch/>
        </p:blipFill>
        <p:spPr>
          <a:xfrm>
            <a:off x="6900840" y="1598760"/>
            <a:ext cx="3648240" cy="366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9:57:26Z</dcterms:created>
  <dc:creator>Marc Benedict Bernaldez</dc:creator>
  <dc:description/>
  <dc:language>en-US</dc:language>
  <cp:lastModifiedBy>app</cp:lastModifiedBy>
  <dcterms:modified xsi:type="dcterms:W3CDTF">2023-09-22T20:40:17Z</dcterms:modified>
  <cp:revision>3</cp:revision>
  <dc:subject/>
  <dc:title>Microbiology Specimen Labeling</dc:title>
</cp:coreProperties>
</file>