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C7E0-90B6-489A-B155-3EEF89F451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6" name="Google Shape;103;p2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F82D-A685-4648-B6A6-9B786C6DF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9" name="Google Shape;116;p4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0564-DD2C-4F03-9CB4-670B62A0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D885-AF87-45BE-9EB9-6C66556B342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3985-B2F9-4347-A208-08B5C390D48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A5F1-5BFD-49A3-8EBE-1AEE166F0E4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D050-769F-4A77-9F37-E7B74BC088A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38E4-16D7-4335-BA94-6DFA4DC0A3B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D4BE-2884-460D-8B94-704277C2247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DF45-F1E3-4918-96C1-92093376E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0286-3DAA-4B2F-9D93-BA1561074C4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D0D9-0547-406E-94CD-BCD7F61F12E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B47A-9026-401F-849A-5C58EDE6525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23A4-A412-4570-933E-17C1CF4F295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A6A8-CFE4-461D-B8E7-234FC28B20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590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"/>
          </p:nvPr>
        </p:nvSpPr>
        <p:spPr>
          <a:xfrm>
            <a:off x="11471400" y="6554520"/>
            <a:ext cx="6429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7e6e6"/>
                </a:solidFill>
                <a:latin typeface="Calibri"/>
                <a:ea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D1F1-C85A-46BD-BA63-6108F318AA25}" type="slidenum">
              <a:rPr b="0" lang="en-US" sz="1100" spc="-1" strike="noStrike">
                <a:solidFill>
                  <a:srgbClr val="e7e6e6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71388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fusion Medicine Upd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Presenter, Credentials, Department / 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38080" y="1825560"/>
          <a:ext cx="10501560" cy="4132440"/>
        </p:xfrm>
        <a:graphic>
          <a:graphicData uri="http://schemas.openxmlformats.org/drawingml/2006/table">
            <a:tbl>
              <a:tblPr/>
              <a:tblGrid>
                <a:gridCol w="3025800"/>
                <a:gridCol w="827280"/>
                <a:gridCol w="882720"/>
                <a:gridCol w="892080"/>
                <a:gridCol w="772920"/>
                <a:gridCol w="925560"/>
                <a:gridCol w="925560"/>
                <a:gridCol w="804960"/>
                <a:gridCol w="718920"/>
                <a:gridCol w="725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&amp; Blood Transf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mens Labeled Incorrec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s Taking &gt; 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TX Reaction Not Verified by 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Re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Volume Docu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Labeling issue – event report written and all specimens re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Transfusions &gt; 4 hrs – Total event reports due to incomplete transfusion documentation in Epic and not actual transfusion time. Transfusionist edits the time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Volume problems – event reports written. CRN or nurse manager follows up with staff to edit transcription errors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Upon hire of the TSO, increase the number of transfusions reviewed for appropriateness and reactions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Communicate statistics and goals to educate nursing &amp; physic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Pro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for each project that the team is actively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Google Shape;118;p1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33308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j</dc:creator>
  <dc:description/>
  <dc:language>en-US</dc:language>
  <cp:lastModifiedBy>app</cp:lastModifiedBy>
  <dcterms:modified xsi:type="dcterms:W3CDTF">2023-09-22T20:40:14Z</dcterms:modified>
  <cp:revision>3</cp:revision>
  <dc:subject/>
  <dc:title>Transfusion Medicine Update</dc:title>
</cp:coreProperties>
</file>